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9EE3C-0F1B-406F-BE63-0F70E1D72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EE81E-FABF-4F5A-9584-C779E4162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21271-84B5-4C07-875A-734B89BCA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B3374-18FE-469E-A190-E11ED7606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B671B-5C9E-4748-A458-C828C6266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0CA30-AC17-4D15-AB33-DA5287351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2C381-91F9-44CE-AF93-D67478A7E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D3232-F6A7-45B3-8D85-BBE0133DE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163E4-2EEE-4998-B045-9CCAFAC84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9D9BB-8F67-49F0-A4AB-06AA79F81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587E7-FE13-4F2A-AC4E-9A687C293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A2D45-E790-4C53-ABD8-5B108F38D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5566-6DA2-48D5-8083-58031CCD4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ige Fasnacht,</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Lauren Lennox</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because he hears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and tend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5867280" y="1676520"/>
            <a:ext cx="1752840" cy="1566720"/>
          </a:xfrm>
          <a:prstGeom prst="rect">
            <a:avLst/>
          </a:prstGeom>
          <a:ln w="0">
            <a:noFill/>
          </a:ln>
        </p:spPr>
      </p:pic>
      <p:pic>
        <p:nvPicPr>
          <p:cNvPr id="50" name="" descr=""/>
          <p:cNvPicPr/>
          <p:nvPr/>
        </p:nvPicPr>
        <p:blipFill>
          <a:blip r:embed="rId2"/>
          <a:stretch/>
        </p:blipFill>
        <p:spPr>
          <a:xfrm>
            <a:off x="5867280" y="3200400"/>
            <a:ext cx="1752840" cy="1676520"/>
          </a:xfrm>
          <a:prstGeom prst="rect">
            <a:avLst/>
          </a:prstGeom>
          <a:ln w="0">
            <a:noFill/>
          </a:ln>
        </p:spPr>
      </p:pic>
      <p:pic>
        <p:nvPicPr>
          <p:cNvPr id="51" name="" descr=""/>
          <p:cNvPicPr/>
          <p:nvPr/>
        </p:nvPicPr>
        <p:blipFill>
          <a:blip r:embed="rId3"/>
          <a:stretch/>
        </p:blipFill>
        <p:spPr>
          <a:xfrm>
            <a:off x="5867280" y="4876920"/>
            <a:ext cx="1752840" cy="1447560"/>
          </a:xfrm>
          <a:prstGeom prst="rect">
            <a:avLst/>
          </a:prstGeom>
          <a:ln w="0">
            <a:noFill/>
          </a:ln>
        </p:spPr>
      </p:pic>
      <p:sp>
        <p:nvSpPr>
          <p:cNvPr id="52"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55"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Orlick referring to when he said that Pip came between him and the girl he “fancie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Orlick goes after escaping from Herbert and his group?</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61"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pg. 408</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5181480" y="4044960"/>
            <a:ext cx="2667240" cy="2432160"/>
          </a:xfrm>
          <a:prstGeom prst="rect">
            <a:avLst/>
          </a:prstGeom>
          <a:ln w="0">
            <a:noFill/>
          </a:ln>
        </p:spPr>
      </p:pic>
      <p:pic>
        <p:nvPicPr>
          <p:cNvPr id="66" name=""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at Magwitch drowned Compeyson on purpose?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ill Magwitch attempt to escape again?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lynn</cp:lastModifiedBy>
  <dcterms:modified xsi:type="dcterms:W3CDTF">2009-03-17T22:59:49Z</dcterms:modified>
  <cp:revision>19</cp:revision>
  <dc:subject/>
  <dc:title>Great Expectations Chapters 53-54</dc:title>
</cp:coreProperties>
</file>